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65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e2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87400" y="4686120"/>
            <a:ext cx="4888080" cy="4439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2F1C069-10B5-43A4-9601-EE0DD00A4EC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517495A-2B40-4617-A662-8AE3E88C488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04097E0-973B-4405-A48B-75E14EC714B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3C7A323-7246-4AED-92EC-51B48FFF70E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174FC43-612D-4A70-B0D0-C06164C3DAB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45734A3-A89D-4711-AAA0-CC5B79AA516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E0DD1E1-BF18-477A-BFB8-ED0583AD1F5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942E865-7055-452F-B96B-48E5572FEED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56E4819-6B3F-4C7E-8877-7001C27BE12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CEEED28-282D-4EF2-907E-8260F59C40C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3B63130-AD45-4570-B3C4-7A628698A6E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73DDD62-74ED-4A54-BF4D-A874DAB09F5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D2A4566-3E9C-4219-85B7-B7E33AFAE2C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D2705D3-C83D-4B53-A758-487362DCE90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679B5C4-91A4-4D0D-A88C-B69EE7EBC73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40B8A6-F4D8-4BD7-B7D3-D2AAA8CC8DA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73F6909-5062-4D0F-BD15-A8270732846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2FF48B6-97C0-4C9C-A7E4-B073CCAA2A6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4D0702C-DED4-4FD5-B96D-F01A3F196A1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2604C62-5B3B-4ED2-ACC6-D07E26B3258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25F79A3-B95A-4C56-BDCD-02F81F8FD79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923E9D0-F5DA-4C6A-83AE-94BBCD56FDD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E61EB27-00E5-4CB9-8774-B9F7397C72E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EA99064-BCA2-4841-A68C-3792C52BB7A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C0A24ED-E063-4D0E-83BB-500594238A1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3BC9603-297E-46F2-80AD-4E57DFC0E48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30E9ECC-3906-40DA-844C-E5C2D6214D6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9369FD7-EF53-46D9-9F89-AAAF51F6D04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9C03425-2457-4948-AA93-C9EC267C68B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8C0B88A-3791-4AA4-A667-341DC0636E8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D9DCD65-7832-4BA1-9F7C-1347C686443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887400" y="4686120"/>
            <a:ext cx="4888080" cy="4439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EDA Software GmbH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lgorithmic Solutions Softwar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45E9EAC-F936-4BAF-A986-EDC8BC4FF06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BB8F0D8-EC0F-42BA-B9C0-4D6EF41BF79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AB81EA6-9612-46F8-BDC6-5991F297CDA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1D61EDC-B9CB-48D0-BD62-B9604F15975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C483BED-F7ED-4F50-A347-510686C99C5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147E4A7-335A-45D2-966D-899929BFD13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885C5D7-CDD3-4A7D-A997-7A260FE419B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498338B-98F8-4EDF-8719-6D890C85AFD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D852F8F-6D10-4A20-9CE4-91FFA77B690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9C65DF2-E0A5-486D-B5B5-D5E7E0CC3D2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06126BB-B7D3-49B7-B66E-B90CCEE20E9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DC11775-A3CB-4041-B113-5536BC56F22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388E8B0-4F2C-4CC8-A6A2-8D65A72BD06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8D6BDAF-B359-4A13-BF13-DEBFEC220D7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D6A8282-55FF-4124-9A54-7D3B82EAB98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8A89408-109C-41A3-949E-F8D9973453E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774960" y="937368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C4C5D38-73F5-4602-8A3E-0041ED98048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937368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602080" y="0"/>
            <a:ext cx="4268520" cy="32018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0" y="3389400"/>
            <a:ext cx="6662880" cy="60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EBC0-1FA3-4F57-8422-2511F20A6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42840" y="4952520"/>
            <a:ext cx="5715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42840" y="5629320"/>
            <a:ext cx="5715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DF22-AB26-47E8-B6B8-7712D9D01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42840" y="4952520"/>
            <a:ext cx="27885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1080" y="4952520"/>
            <a:ext cx="27885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742840" y="5629320"/>
            <a:ext cx="27885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71080" y="5629320"/>
            <a:ext cx="27885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397C-A2F2-4292-BF1B-F88E958C2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42840" y="4952520"/>
            <a:ext cx="18399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320" y="4952520"/>
            <a:ext cx="18399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07440" y="4952520"/>
            <a:ext cx="18399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742840" y="5629320"/>
            <a:ext cx="18399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75320" y="5629320"/>
            <a:ext cx="18399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07440" y="5629320"/>
            <a:ext cx="18399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7A326-5E4F-49D3-A5C6-2325FEB67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742840" y="4952520"/>
            <a:ext cx="5715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742840" y="4952520"/>
            <a:ext cx="57150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742840" y="4952520"/>
            <a:ext cx="27885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671080" y="4952520"/>
            <a:ext cx="27885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0720" y="3657240"/>
            <a:ext cx="57229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2840" y="4952520"/>
            <a:ext cx="27885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71080" y="4952520"/>
            <a:ext cx="27885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742840" y="5629320"/>
            <a:ext cx="27885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742840" y="4952520"/>
            <a:ext cx="5715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139B-6B79-409D-BEA3-1BABCF57F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42840" y="4952520"/>
            <a:ext cx="27885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71080" y="4952520"/>
            <a:ext cx="27885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71080" y="5629320"/>
            <a:ext cx="27885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42840" y="4952520"/>
            <a:ext cx="27885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71080" y="4952520"/>
            <a:ext cx="27885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742840" y="5629320"/>
            <a:ext cx="5715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42840" y="4952520"/>
            <a:ext cx="5715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742840" y="5629320"/>
            <a:ext cx="5715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2840" y="4952520"/>
            <a:ext cx="27885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71080" y="4952520"/>
            <a:ext cx="27885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42840" y="5629320"/>
            <a:ext cx="27885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671080" y="5629320"/>
            <a:ext cx="27885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42840" y="4952520"/>
            <a:ext cx="18399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5320" y="4952520"/>
            <a:ext cx="18399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07440" y="4952520"/>
            <a:ext cx="18399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742840" y="5629320"/>
            <a:ext cx="18399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75320" y="5629320"/>
            <a:ext cx="18399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07440" y="5629320"/>
            <a:ext cx="18399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742840" y="4952520"/>
            <a:ext cx="57150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1DAA-AF30-4C9E-B268-42389E60A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42840" y="4952520"/>
            <a:ext cx="27885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71080" y="4952520"/>
            <a:ext cx="27885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2099-3F0D-446F-A548-90EB3223F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FAB9-54B1-470C-AE4D-F28A3AAE2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80720" y="3657240"/>
            <a:ext cx="57229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DB4B-94D2-4C6D-B3F8-43C010D39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42840" y="4952520"/>
            <a:ext cx="27885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71080" y="4952520"/>
            <a:ext cx="27885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742840" y="5629320"/>
            <a:ext cx="27885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AE7B-E3A1-43EC-8AC4-2D6433F02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42840" y="4952520"/>
            <a:ext cx="278856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71080" y="4952520"/>
            <a:ext cx="27885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71080" y="5629320"/>
            <a:ext cx="27885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DA65-2A6C-4D31-B0DD-FC045D613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42840" y="4952520"/>
            <a:ext cx="27885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71080" y="4952520"/>
            <a:ext cx="27885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42840" y="5629320"/>
            <a:ext cx="5715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6FC9-7741-4DA7-83B9-712A36A2E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75800" y="1599840"/>
            <a:ext cx="774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51"/>
              </a:spcBef>
              <a:buClr>
                <a:srgbClr val="83de62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  <a:p>
            <a:pPr lvl="1" marL="630360" indent="-173160">
              <a:spcBef>
                <a:spcPts val="751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  <a:p>
            <a:pPr lvl="2" marL="1085760" indent="-228600">
              <a:spcBef>
                <a:spcPts val="751"/>
              </a:spcBef>
              <a:buClr>
                <a:srgbClr val="dce2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  <a:p>
            <a:pPr lvl="3" marL="1428840" indent="-228600">
              <a:spcBef>
                <a:spcPts val="751"/>
              </a:spcBef>
              <a:buClr>
                <a:srgbClr val="b600b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  <a:p>
            <a:pPr lvl="4" marL="1771560" indent="-228600">
              <a:spcBef>
                <a:spcPts val="751"/>
              </a:spcBef>
              <a:buClr>
                <a:srgbClr val="96969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  <a:p>
            <a:pPr lvl="5" marL="1771560" indent="-228600">
              <a:spcBef>
                <a:spcPts val="751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  <a:p>
            <a:pPr lvl="6" marL="1771560" indent="-228600">
              <a:spcBef>
                <a:spcPts val="751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75800" y="380880"/>
            <a:ext cx="7745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e2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ce2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152960" y="631152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E001-32AD-4F63-8AAA-A043148935BA}" type="slidenum">
              <a:rPr b="0" lang="en-US" sz="14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" name="compaq%20on%20dark" descr=""/>
          <p:cNvPicPr/>
          <p:nvPr/>
        </p:nvPicPr>
        <p:blipFill>
          <a:blip r:embed="rId3"/>
          <a:stretch/>
        </p:blipFill>
        <p:spPr>
          <a:xfrm>
            <a:off x="533520" y="6227640"/>
            <a:ext cx="1295280" cy="24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0720" y="365724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2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266"/>
              </a:solidFill>
              <a:latin typeface="Arial"/>
            </a:endParaRPr>
          </a:p>
        </p:txBody>
      </p:sp>
      <p:pic>
        <p:nvPicPr>
          <p:cNvPr id="41" name="compaq%20on%20dark" descr=""/>
          <p:cNvPicPr/>
          <p:nvPr/>
        </p:nvPicPr>
        <p:blipFill>
          <a:blip r:embed="rId3"/>
          <a:stretch/>
        </p:blipFill>
        <p:spPr>
          <a:xfrm>
            <a:off x="533520" y="6227640"/>
            <a:ext cx="1295280" cy="24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lvl="2" marL="857160" algn="ctr">
              <a:spcBef>
                <a:spcPts val="751"/>
              </a:spcBef>
              <a:buClr>
                <a:srgbClr val="dce266"/>
              </a:buClr>
              <a:buSzPct val="75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eaeaea"/>
              </a:solidFill>
              <a:latin typeface="Tahoma"/>
            </a:endParaRPr>
          </a:p>
          <a:p>
            <a:pPr lvl="3" marL="1200240" algn="ctr">
              <a:spcBef>
                <a:spcPts val="601"/>
              </a:spcBef>
              <a:buClr>
                <a:srgbClr val="b600b6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1542960" algn="ctr">
              <a:spcBef>
                <a:spcPts val="499"/>
              </a:spcBef>
              <a:buClr>
                <a:srgbClr val="969696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 Narrow"/>
            </a:endParaRPr>
          </a:p>
          <a:p>
            <a:pPr lvl="5" marL="1542960">
              <a:spcBef>
                <a:spcPts val="49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 Narrow"/>
            </a:endParaRPr>
          </a:p>
          <a:p>
            <a:pPr lvl="6" marL="1542960">
              <a:spcBef>
                <a:spcPts val="49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LEDA-4.3_man_html\array.html" TargetMode="External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LEDA-4.3_man_html\integer.html" TargetMode="External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LEDA-4.3_man_html\rational.html" TargetMode="External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LEDA-4.3_man_html\bigfloat.html" TargetMode="External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LEDA-4.3_man_html\circle.html" TargetMode="External"/><Relationship Id="rId3" Type="http://schemas.openxmlformats.org/officeDocument/2006/relationships/hyperlink" Target="LEDA-4.3_man_html\rat_circle.html" TargetMode="External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LEDA-4.3_man_html\index.html" TargetMode="External"/><Relationship Id="rId3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LEDA-4.3_man_html\point_generators.html" TargetMode="External"/><Relationship Id="rId3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LEDA-4.3_man_html\Basic_Data_Types2.html" TargetMode="External"/><Relationship Id="rId3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Dijkstra.doc" TargetMode="External"/><Relationship Id="rId3" Type="http://schemas.openxmlformats.org/officeDocument/2006/relationships/hyperlink" Target="CRUST.doc" TargetMode="External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51080" y="3112920"/>
            <a:ext cx="3809880" cy="6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2680" indent="-112680" algn="ctr">
              <a:lnSpc>
                <a:spcPct val="9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3700440"/>
            <a:ext cx="384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528480" y="5572080"/>
            <a:ext cx="258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Mark Gilerovich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26.12.2001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9" name=""/>
          <p:cNvSpPr txBox="1"/>
          <p:nvPr/>
        </p:nvSpPr>
        <p:spPr>
          <a:xfrm rot="429600">
            <a:off x="1709280" y="927000"/>
            <a:ext cx="6253200" cy="30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LEDA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3240" y="5643720"/>
            <a:ext cx="564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614920"/>
            <a:ext cx="52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Seminar on Robustness and Precision  in Geometric Computing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D66A-4B0A-473B-ABC5-27829A00A006}" type="slidenum">
              <a:t>1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09840" y="317520"/>
            <a:ext cx="602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ndations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630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LEDA based on and heavily uses most of the features of C++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396720" y="2386080"/>
            <a:ext cx="8310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ll data types in LEDA have full set of definitions and specifications, consisting following parts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83de6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Definition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– defines the data type using standard mathematical concepts and notations.Most data types in LEDA are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rameterize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T&lt;T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,…,T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gt; (array&lt;string&gt;, map&lt;string,int&gt;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83de6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Creation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– discuss how objects are created and initialized. Default and special construction and initialization.    (stack&lt;E&gt; S;     array&lt;E&gt; A(int l,int u);)                Initialization by default value and initialization by copying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0685-860E-4482-9618-8E220A05CF78}" type="slidenum">
              <a:t>10</a:t>
            </a:fld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37960" y="1822320"/>
            <a:ext cx="856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ll data types in LEDA have full set of definitions and specifications, consisting following parts (cont.)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83de6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Operations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– Every type comes with set of operations that can be applied to the object of the type. It consists of two parts:             1. Definition of its interface (syntax).                                           2. Definition of its effect (semantics).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econditions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83de6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Implementation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– information about  implementation issues, running times, and space requirements. Usually O() notation is used. This give to the user tools to know time and space requirements of he’s program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1849320" y="268200"/>
            <a:ext cx="556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ndations (cont.)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7373880" y="608328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f2b"/>
                </a:solidFill>
                <a:uFillTx/>
                <a:latin typeface="Times New Roman"/>
                <a:ea typeface="Times New Roman"/>
                <a:hlinkClick r:id="rId2"/>
              </a:rPr>
              <a:t>Exampl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1A22-E0F0-470F-ADB5-79456ED90291}" type="slidenum">
              <a:t>11</a:t>
            </a:fld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87040" y="307800"/>
            <a:ext cx="32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em Types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774720" y="1349280"/>
            <a:ext cx="7454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ecial types with special implementation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te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are addresses of container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2271600"/>
          <a:ext cx="9144000" cy="4613400"/>
        </p:xfrm>
        <a:graphic>
          <a:graphicData uri="http://schemas.openxmlformats.org/drawingml/2006/table">
            <a:tbl>
              <a:tblPr/>
              <a:tblGrid>
                <a:gridCol w="4413240"/>
                <a:gridCol w="473076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3de62"/>
                          </a:solidFill>
                          <a:latin typeface="Times New Roman"/>
                          <a:ea typeface="Times New Roman"/>
                        </a:rPr>
                        <a:t>Depended (part of parent type)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83de62"/>
                          </a:solidFill>
                          <a:latin typeface="Times New Roman"/>
                          <a:ea typeface="Times New Roman"/>
                        </a:rPr>
                        <a:t>Independent (no parent type)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ic_items – items in dictionary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q_items – items in priority queue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odes &amp; edges – items of graph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Basic geometric types: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oints, segments, lines, etc …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.key(item) (D- is a parent type)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p.xcoord(); s.start(); (p &amp; s items)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tem implemented as a regular pointer to container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Item implemented as class whose only member is a pointer to container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egular freeing of memory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Need for </a:t>
                      </a:r>
                      <a:r>
                        <a:rPr b="0" i="1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eference count – </a:t>
                      </a: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.g., how many points point to the container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Encapsulation and operators redefinition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The technique is called </a:t>
                      </a:r>
                      <a:r>
                        <a:rPr b="0" i="1" lang="en-US" sz="2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handle types</a:t>
                      </a:r>
                      <a:endParaRPr b="0" lang="en-US" sz="22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E1C0-5C07-4E48-BC79-8B4A1C14AB67}" type="slidenum">
              <a:t>12</a:t>
            </a:fld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87800" y="247680"/>
            <a:ext cx="25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eration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415800" y="1628640"/>
            <a:ext cx="845028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or many data types, LEDA offer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teration macro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that allow to iterate over the elements of a collection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or item based types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orall_items(it,D) { … }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or lists and sets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// L is a list&lt;point&gt;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int p;  forall(p,L) { … }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or graphs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orall_nodes(v,G) { … }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orall_edges(e,G) { … }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4221-FDFC-4F4E-9F5B-44E490BEBCDC}" type="slidenum">
              <a:t>13</a:t>
            </a:fld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30080" y="268200"/>
            <a:ext cx="57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ameterized types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636480" y="1590840"/>
            <a:ext cx="82090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ost data types in LEDA are parameterized. Such as lists over arbitrary element type E (list&lt;E&gt;)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Which type can be other type’s type argument ?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t must provide following six functions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.Default constructor;     2.Copy constructor;  3.Assignment operator;   4.Read function;                 5.Print function;              6.Destructo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B4B8-7C0E-4716-A8AA-4BB82434439E}" type="slidenum">
              <a:t>14</a:t>
            </a:fld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51720" y="28728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ful Small Function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346480" y="2212920"/>
            <a:ext cx="4313160" cy="19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HELP!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12A4-3F01-48FD-8755-A5E1AA73942D}" type="slidenum">
              <a:t>15</a:t>
            </a:fld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36480" y="268200"/>
            <a:ext cx="629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mory Management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338040" y="1709640"/>
            <a:ext cx="8348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dd the macro call LEDA_MEMORY(T) to the definition of class T. This will create </a:t>
            </a:r>
            <a:r>
              <a:rPr b="0" i="1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w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and </a:t>
            </a:r>
            <a:r>
              <a:rPr b="0" i="1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elete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operators that are rely on LEDA’s memory manager.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main advantages over built-in </a:t>
            </a:r>
            <a:r>
              <a:rPr b="0" i="1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w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elete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operations: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emory is allocated in big chunks and thus frequent and      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stly calls to the memory allocator are avoided 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emory returned by the </a:t>
            </a:r>
            <a:r>
              <a:rPr b="0" i="1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elete 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perator is reused by later 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alls of the </a:t>
            </a:r>
            <a:r>
              <a:rPr b="0" i="1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w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operator, i.e., garbage collection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FD7B-3776-45BA-9E5A-0B2781287C91}" type="slidenum">
              <a:t>16</a:t>
            </a:fld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338200" y="249120"/>
            <a:ext cx="427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umber Types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517680" y="1649520"/>
            <a:ext cx="810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Mathematical type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61440" y="4280760"/>
            <a:ext cx="3041280" cy="986040"/>
            <a:chOff x="3061440" y="4280760"/>
            <a:chExt cx="3041280" cy="986040"/>
          </a:xfrm>
        </p:grpSpPr>
        <p:sp>
          <p:nvSpPr>
            <p:cNvPr id="140" name=""/>
            <p:cNvSpPr/>
            <p:nvPr/>
          </p:nvSpPr>
          <p:spPr>
            <a:xfrm rot="8198400">
              <a:off x="2964960" y="4671360"/>
              <a:ext cx="1218960" cy="204840"/>
            </a:xfrm>
            <a:custGeom>
              <a:avLst/>
              <a:gdLst>
                <a:gd name="textAreaLeft" fmla="*/ 190440 w 1218960"/>
                <a:gd name="textAreaRight" fmla="*/ 1066680 w 1218960"/>
                <a:gd name="textAreaTop" fmla="*/ 51120 h 204840"/>
                <a:gd name="textAreaBottom" fmla="*/ 1537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8f2b"/>
            </a:solidFill>
            <a:ln w="0">
              <a:noFill/>
            </a:ln>
            <a:effectLst>
              <a:outerShdw dist="17819" dir="2700000" blurRad="0" rotWithShape="0">
                <a:srgbClr val="9855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487600">
              <a:off x="4968360" y="4658400"/>
              <a:ext cx="1219320" cy="204840"/>
            </a:xfrm>
            <a:custGeom>
              <a:avLst/>
              <a:gdLst>
                <a:gd name="textAreaLeft" fmla="*/ 190440 w 1219320"/>
                <a:gd name="textAreaRight" fmla="*/ 1067040 w 1219320"/>
                <a:gd name="textAreaTop" fmla="*/ 51120 h 204840"/>
                <a:gd name="textAreaBottom" fmla="*/ 1537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8f2b"/>
            </a:solidFill>
            <a:ln w="0">
              <a:noFill/>
            </a:ln>
            <a:effectLst>
              <a:outerShdw dist="17819" dir="2700000" blurRad="0" rotWithShape="0">
                <a:srgbClr val="9855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4358880" y="4594320"/>
              <a:ext cx="533520" cy="45720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8f2b"/>
            </a:solidFill>
            <a:ln w="0">
              <a:noFill/>
            </a:ln>
            <a:effectLst>
              <a:outerShdw dist="17819" dir="2700000" blurRad="0" rotWithShape="0">
                <a:srgbClr val="9855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716040" y="2922480"/>
            <a:ext cx="80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Integer           Rational           Rea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2146320" y="3817800"/>
            <a:ext cx="493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C++ type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054600" y="2048760"/>
            <a:ext cx="3041640" cy="986040"/>
            <a:chOff x="3054600" y="2048760"/>
            <a:chExt cx="3041640" cy="986040"/>
          </a:xfrm>
        </p:grpSpPr>
        <p:sp>
          <p:nvSpPr>
            <p:cNvPr id="146" name=""/>
            <p:cNvSpPr/>
            <p:nvPr/>
          </p:nvSpPr>
          <p:spPr>
            <a:xfrm rot="8198400">
              <a:off x="2958480" y="2439360"/>
              <a:ext cx="1218600" cy="204840"/>
            </a:xfrm>
            <a:custGeom>
              <a:avLst/>
              <a:gdLst>
                <a:gd name="textAreaLeft" fmla="*/ 190440 w 1218600"/>
                <a:gd name="textAreaRight" fmla="*/ 1066320 w 1218600"/>
                <a:gd name="textAreaTop" fmla="*/ 51120 h 204840"/>
                <a:gd name="textAreaBottom" fmla="*/ 1537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8f2b"/>
            </a:solidFill>
            <a:ln w="0">
              <a:noFill/>
            </a:ln>
            <a:effectLst>
              <a:outerShdw dist="17819" dir="2700000" blurRad="0" rotWithShape="0">
                <a:srgbClr val="9855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487600">
              <a:off x="4961880" y="2426400"/>
              <a:ext cx="1218960" cy="204840"/>
            </a:xfrm>
            <a:custGeom>
              <a:avLst/>
              <a:gdLst>
                <a:gd name="textAreaLeft" fmla="*/ 190440 w 1218960"/>
                <a:gd name="textAreaRight" fmla="*/ 1066680 w 1218960"/>
                <a:gd name="textAreaTop" fmla="*/ 51120 h 204840"/>
                <a:gd name="textAreaBottom" fmla="*/ 1537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8f2b"/>
            </a:solidFill>
            <a:ln w="0">
              <a:noFill/>
            </a:ln>
            <a:effectLst>
              <a:outerShdw dist="17819" dir="2700000" blurRad="0" rotWithShape="0">
                <a:srgbClr val="9855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4351680" y="2362320"/>
              <a:ext cx="533520" cy="456840"/>
            </a:xfrm>
            <a:custGeom>
              <a:avLst/>
              <a:gdLst>
                <a:gd name="textAreaLeft" fmla="*/ 83160 w 533520"/>
                <a:gd name="textAreaRight" fmla="*/ 466920 w 533520"/>
                <a:gd name="textAreaTop" fmla="*/ 114120 h 456840"/>
                <a:gd name="textAreaBottom" fmla="*/ 34272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8f2b"/>
            </a:solidFill>
            <a:ln w="0">
              <a:noFill/>
            </a:ln>
            <a:effectLst>
              <a:outerShdw dist="17819" dir="2700000" blurRad="0" rotWithShape="0">
                <a:srgbClr val="9855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509840" y="5067360"/>
            <a:ext cx="60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int              float             doubl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1728720" y="3697200"/>
            <a:ext cx="5526000" cy="0"/>
          </a:xfrm>
          <a:prstGeom prst="line">
            <a:avLst/>
          </a:prstGeom>
          <a:ln w="76320">
            <a:solidFill>
              <a:srgbClr val="83de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477720" y="5670720"/>
            <a:ext cx="819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++ types are only crude approximation of their mathematical counterparts: there are only finitely many numbers and for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loat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uble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the arithmetic incurs rounding error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E687-1CC9-471A-9523-763AA3E061DF}" type="slidenum">
              <a:t>17</a:t>
            </a:fld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57360" y="307800"/>
            <a:ext cx="630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umber Types (cont.)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1789200"/>
            <a:ext cx="62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LEDA OFFER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853920" y="2465280"/>
            <a:ext cx="741528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teg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ational –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exact realization of the corresponding mathematical type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igfloat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eal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– the better approximations of the real number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ctor and Matrices – are one and two dimensional arrays of numbers respectively, and they provide the basic operations of linear algebra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4038-C9C8-422B-8DCE-6100B8CE8416}" type="slidenum">
              <a:t>18</a:t>
            </a:fld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47800" y="307800"/>
            <a:ext cx="376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ers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237960" y="1450800"/>
            <a:ext cx="866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1411200"/>
            <a:ext cx="85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Review of C++ standard integer representation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317520" y="2465280"/>
            <a:ext cx="84884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++ provides the integral types short, int, long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t w – word size (usually w=32 or w=64) and let m=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eaeaea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signed integers are in the range –   0 .. m-1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gned integers are in the range – [MININT;MAXINT]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 most machines signed represented in two’s complement, then MININT= -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eaeaea"/>
                </a:solidFill>
                <a:latin typeface="Times New Roman"/>
              </a:rPr>
              <a:t>w-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 MAXINT=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eaeaea"/>
                </a:solidFill>
                <a:latin typeface="Times New Roman"/>
              </a:rPr>
              <a:t>w-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5C87-1295-4EC6-9770-730B8E75A771}" type="slidenum">
              <a:t>19</a:t>
            </a:fld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14480" y="200160"/>
            <a:ext cx="337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ents</a:t>
            </a:r>
            <a:endParaRPr b="0" lang="en-US" sz="6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905040" y="1528920"/>
            <a:ext cx="48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Introduction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905040" y="257004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Foundations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942840" y="3875040"/>
            <a:ext cx="51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Number Types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968400" y="5092560"/>
            <a:ext cx="52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Geometry Kernels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5965-E94D-4CF5-A02F-8BE7E374191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43000" y="287280"/>
            <a:ext cx="503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ers (cont.)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496800" y="1609560"/>
            <a:ext cx="82296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The Problem: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n arithmetic operations on signed ints may produce a result outside of the range and cause overflows or underflow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Good cas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– runtime error  &amp; 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Bad cas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– wrong result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xample of Dijkstra with ∞ represented as MAXINT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XINT + MAXINT = -2         !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≡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(∞ + ∞ = ∞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XINT + 1 = MININT (- ∞)   !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≡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(∞ + 1 = ∞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5900-438D-47A4-BD7E-B0C320C5B349}" type="slidenum">
              <a:t>20</a:t>
            </a:fld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04960" y="247680"/>
            <a:ext cx="577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DA’s Integers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476280" y="1365120"/>
            <a:ext cx="83088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LEDA’s </a:t>
            </a:r>
            <a:r>
              <a:rPr b="0" i="1" lang="en-US" sz="28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integer </a:t>
            </a:r>
            <a:r>
              <a:rPr b="0" lang="en-US" sz="28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realizes the mathematical type integer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Arithmetic operation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+, -, *, /, +=, -=, *=, /=, ++,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-,-(unary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Modulus operation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   %,%=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Bitwise operation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     &amp;&amp;,&amp;&amp;=(and), ||,||=(or),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~(complement), &lt;&lt;,&gt;&gt;(shift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Comparison operator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&lt;, &lt;=, &gt;, &gt;=, ==, !=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240C-7CA7-405B-AA55-160552736705}" type="slidenum">
              <a:t>21</a:t>
            </a:fld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38040" y="1712880"/>
            <a:ext cx="8528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I/O operation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Other useful operation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sqrt(a), log(a), gcd(a,b), </a:t>
            </a:r>
            <a:r>
              <a:rPr b="0" lang="en-US" sz="2800" spc="-1" strike="noStrike" u="sng">
                <a:solidFill>
                  <a:srgbClr val="ff8f2b"/>
                </a:solidFill>
                <a:uFillTx/>
                <a:latin typeface="Times New Roman"/>
                <a:ea typeface="Times New Roman"/>
                <a:hlinkClick r:id="rId2"/>
              </a:rPr>
              <a:t>et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… 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ll this operations never overflow and always yield the exact results (of course they may run out of memory)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actorial – comparative example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1213200" y="34776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DA’s Integers (cont.)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9BEA-5302-4B0A-BCC8-CE7A6A7FA793}" type="slidenum">
              <a:t>22</a:t>
            </a:fld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76840" y="268200"/>
            <a:ext cx="686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DA’s Integers (cont.)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1173240" y="1411200"/>
            <a:ext cx="67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Implementation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"/>
          <p:cNvSpPr/>
          <p:nvPr/>
        </p:nvSpPr>
        <p:spPr>
          <a:xfrm>
            <a:off x="237960" y="2027160"/>
            <a:ext cx="86281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DA’s integers are implemented by a vector of unsigned longs. The sign and the size stored in extra variables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fficient and compares well with other implementation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ore efficient then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ration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e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number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UT about 30 – 100 times slower then double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The analysis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if L is the length of the operands then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T(addition) = O(L) and T(mult) = O(L</a:t>
            </a:r>
            <a:r>
              <a:rPr b="1" lang="en-US" sz="2800" spc="-1" strike="noStrike" baseline="30000">
                <a:solidFill>
                  <a:srgbClr val="eaeaea"/>
                </a:solidFill>
                <a:latin typeface="Times New Roman"/>
              </a:rPr>
              <a:t>log3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teger_test comparative example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076F-CA54-4B8D-9749-BA0DEEF2A6D6}" type="slidenum">
              <a:t>23</a:t>
            </a:fld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831320" y="287280"/>
            <a:ext cx="557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DA’s Rationales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279360" y="1498680"/>
            <a:ext cx="8586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LEDA’s </a:t>
            </a:r>
            <a:r>
              <a:rPr b="0" i="1" lang="en-US" sz="28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rational </a:t>
            </a:r>
            <a:r>
              <a:rPr b="0" lang="en-US" sz="28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number is the</a:t>
            </a:r>
            <a:r>
              <a:rPr b="0" i="1" lang="en-US" sz="28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quotient of two integer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Arithmetic operation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+, -, *, /, +=, -=, *=, /=, ++,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--,-(unary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Comparison operator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&lt;, &lt;=, &gt;, &gt;=, ==, !=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I/O operation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Other useful operation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to extract the numerator and denominator, compute squares and powers, rounds, </a:t>
            </a:r>
            <a:r>
              <a:rPr b="0" lang="en-US" sz="2800" spc="-1" strike="noStrike" u="sng">
                <a:solidFill>
                  <a:srgbClr val="ff8f2b"/>
                </a:solidFill>
                <a:uFillTx/>
                <a:latin typeface="Times New Roman"/>
                <a:ea typeface="Times New Roman"/>
                <a:hlinkClick r:id="rId2"/>
              </a:rPr>
              <a:t>et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ationales not necessarily normalized!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63C4-EF02-462C-A4F8-C9A80604DD09}" type="slidenum">
              <a:t>24</a:t>
            </a:fld>
          </a:p>
        </p:txBody>
      </p: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91000" y="249120"/>
            <a:ext cx="755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DA’s Rationales (cont.)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774720" y="1728720"/>
            <a:ext cx="795168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mputations with rationales always yield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thematically correct results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an be used like double and together with built-in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umber types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ny arithmetic operations predefined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fficient implementatio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bout 30 – 100 times slower than doubl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sed whenever exact arithmetic is needed 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2B53-1358-4757-B417-F720699C7A07}" type="slidenum">
              <a:t>25</a:t>
            </a:fld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94120" y="298440"/>
            <a:ext cx="8605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DA’s Floating Point Numbers</a:t>
            </a:r>
            <a:endParaRPr b="0" lang="en-US" sz="5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58920" y="1590840"/>
            <a:ext cx="8447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378000" y="1550880"/>
            <a:ext cx="8348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loating Point numbers are Computer Science version of mathematic’s real number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C++ offer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yp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loa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– single precision f.p. number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yp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ubl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- double precision f.p. number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LEDA offer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yp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igfloa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– arbitrary precision f.p. number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A3D3E-12C7-4A0B-A9A9-1532EB9F8C37}" type="slidenum">
              <a:t>26</a:t>
            </a:fld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536560" y="289080"/>
            <a:ext cx="37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gfloat type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6" name=""/>
          <p:cNvSpPr/>
          <p:nvPr/>
        </p:nvSpPr>
        <p:spPr>
          <a:xfrm>
            <a:off x="557280" y="1550880"/>
            <a:ext cx="805032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Bigfloa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number represented by pair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m,e),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is m*2</a:t>
            </a:r>
            <a:r>
              <a:rPr b="1" lang="en-US" sz="2800" spc="-1" strike="noStrike" baseline="30000">
                <a:solidFill>
                  <a:srgbClr val="eaeaea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, wher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is the mantissa and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is the exponent. Both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are arbitrary integers (LEDA’s typ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teg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 addition, there are special values </a:t>
            </a: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±0, ±∞, Na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rithmetic on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igfloa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is governed by two parameters, that can be set globally or for a single operation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The mantissa length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igfloat::set_global_prec(N)                          </a:t>
            </a: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The rounding mod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igfloat::set_rounding_mode(TO_ZERO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5763-DF87-45CD-8BEF-01F3518871D2}" type="slidenum">
              <a:t>27</a:t>
            </a:fld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04960" y="26820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gfloat type (cont.)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237960" y="1424160"/>
            <a:ext cx="890604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Available rounding mod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                                TO_NEAREST,  TO_P_INF,  TO_N_INF,  TO_ZERO, TO_INF,  EXACT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Example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decimal notation is used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f m=3 &amp; z=54371 then the rounding value of z:                        *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4400 – TO_NEAREST or TO_P_INF or TO_INF                    *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4300 – TO_N_INF or TO_ZERO                                 *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54371 – EXACT (no rounding)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ince the exponent i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teg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no overflow/underflow occurs.   Regular exceptions handled according to IEEE f.p. standard.    Euler_demo and </a:t>
            </a:r>
            <a:r>
              <a:rPr b="0" lang="en-US" sz="2800" spc="-1" strike="noStrike" u="sng">
                <a:solidFill>
                  <a:srgbClr val="ff8f2b"/>
                </a:solidFill>
                <a:uFillTx/>
                <a:latin typeface="Times New Roman"/>
                <a:ea typeface="Times New Roman"/>
                <a:hlinkClick r:id="rId2"/>
              </a:rPr>
              <a:t>manu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C6448-B243-4884-9DB9-A8B27F855158}" type="slidenum">
              <a:t>28</a:t>
            </a:fld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228680" y="247680"/>
            <a:ext cx="670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ctor and Matrices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376200" y="1547640"/>
            <a:ext cx="845028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Vectors and matrice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are one- and two-dimensional arrays of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number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, respectively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An n-dimensional vect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is an arrangement of n variables of some number type N. The variables are indexed from 0 to n-1 and v[i] denotes the variable with index i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An n </a:t>
            </a:r>
            <a:r>
              <a:rPr b="0" lang="en-US" sz="16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m matrix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M is a two-dimensional arrangement of n*m variables of some number type N. The variables are indexed by pairs (i,j) with 0 ≤ i ≤ n-1 0 ≤ j ≤ m-1. M(I,j) denotes variable indexed by I and j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Double typ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ct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and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matrix                                                       </a:t>
            </a:r>
            <a:r>
              <a:rPr b="0" lang="en-US" sz="24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Integer typ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–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integer_vect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and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integer_matrix                             </a:t>
            </a:r>
            <a:r>
              <a:rPr b="0" lang="en-US" sz="24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Arbitrary typ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–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s a part of LEP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C0F4-0EE7-48A9-8C35-895403C884A6}" type="slidenum">
              <a:t>29</a:t>
            </a:fld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57240" y="371520"/>
            <a:ext cx="69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tion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396720" y="1908000"/>
            <a:ext cx="82915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LEDA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 Platform For Combinatorial and Geometric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Computing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781520"/>
            <a:ext cx="9144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LEDA – </a:t>
            </a:r>
            <a:r>
              <a:rPr b="1" lang="en-US" sz="28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ibrary of </a:t>
            </a:r>
            <a:r>
              <a:rPr b="1" lang="en-US" sz="28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1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fficient </a:t>
            </a:r>
            <a:r>
              <a:rPr b="1" lang="en-US" sz="28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ata </a:t>
            </a:r>
            <a:r>
              <a:rPr b="1" lang="en-US" sz="28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ypes and </a:t>
            </a:r>
            <a:r>
              <a:rPr b="1" lang="en-US" sz="28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lgorithm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s a C++ library of combinatorial and geometric data types and algorithm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63DD-E9FE-4A9D-8BE4-CFB2D82E21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680840" y="307800"/>
            <a:ext cx="538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ometric Kernels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>
            <a:off x="495360" y="1828800"/>
            <a:ext cx="813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LEDA offers following geometry parts: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1112760" y="3637080"/>
            <a:ext cx="745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lane Geometry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ree-dimensional Geometry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igher-dimensional Geometry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4345-87D7-463F-8DAF-A8414AE4260B}" type="slidenum">
              <a:t>30</a:t>
            </a:fld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17240" y="306360"/>
            <a:ext cx="462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e Geometry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1033560" y="1370160"/>
            <a:ext cx="67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fers basic geometric objects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893880" y="2070000"/>
            <a:ext cx="3657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int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ine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gment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ay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3797280" y="2066760"/>
            <a:ext cx="4152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ircle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ctor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lygon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ffine transformation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1400400" y="4540320"/>
            <a:ext cx="52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 geometric primitives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76360" y="2027160"/>
            <a:ext cx="7534080" cy="2565360"/>
            <a:chOff x="576360" y="2027160"/>
            <a:chExt cx="7534080" cy="2565360"/>
          </a:xfrm>
        </p:grpSpPr>
        <p:sp>
          <p:nvSpPr>
            <p:cNvPr id="190" name=""/>
            <p:cNvSpPr/>
            <p:nvPr/>
          </p:nvSpPr>
          <p:spPr>
            <a:xfrm>
              <a:off x="576360" y="2028600"/>
              <a:ext cx="0" cy="2563560"/>
            </a:xfrm>
            <a:prstGeom prst="line">
              <a:avLst/>
            </a:prstGeom>
            <a:ln w="9360">
              <a:solidFill>
                <a:srgbClr val="83de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7800" y="2027160"/>
              <a:ext cx="7532640" cy="0"/>
            </a:xfrm>
            <a:prstGeom prst="line">
              <a:avLst/>
            </a:prstGeom>
            <a:ln w="9360">
              <a:solidFill>
                <a:srgbClr val="83de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10440" y="2027160"/>
              <a:ext cx="0" cy="2544480"/>
            </a:xfrm>
            <a:prstGeom prst="line">
              <a:avLst/>
            </a:prstGeom>
            <a:ln w="9360">
              <a:solidFill>
                <a:srgbClr val="83de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76360" y="4592520"/>
              <a:ext cx="7534080" cy="0"/>
            </a:xfrm>
            <a:prstGeom prst="line">
              <a:avLst/>
            </a:prstGeom>
            <a:ln w="9360">
              <a:solidFill>
                <a:srgbClr val="83de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57280" y="5056200"/>
            <a:ext cx="75135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rea of triangl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int of intersection of two line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tc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AD74-E278-4A56-AD7F-D5D248A9F52C}" type="slidenum">
              <a:t>31</a:t>
            </a:fld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822320" y="268200"/>
            <a:ext cx="538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ometric Kernels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853920" y="1649520"/>
            <a:ext cx="765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There are two kinds of two- and three-dimensional kernel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1192320" y="2782800"/>
            <a:ext cx="71164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The rational kerne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#include &lt;LEDA/rat_kernel.h&gt;                    #include &lt;LEDA/d3_rat_kernel.h&gt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The floating point kerne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#include &lt;LEDA/float_kernel.h&gt;                    #include &lt;LEDA/d3_float_kernel.h&gt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FD16-F54B-4809-A3AD-01C83AD4CF77}" type="slidenum">
              <a:t>32</a:t>
            </a:fld>
          </a:p>
        </p:txBody>
      </p:sp>
    </p:spTree>
  </p:cSld>
  <p:transition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61920" y="326880"/>
            <a:ext cx="538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ometric Kernels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413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Main differences between rational and f.p. kernel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11040" y="2092320"/>
          <a:ext cx="8541000" cy="3990960"/>
        </p:xfrm>
        <a:graphic>
          <a:graphicData uri="http://schemas.openxmlformats.org/drawingml/2006/table">
            <a:tbl>
              <a:tblPr/>
              <a:tblGrid>
                <a:gridCol w="2846520"/>
                <a:gridCol w="2847960"/>
                <a:gridCol w="28465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n-US" sz="2400" spc="-1" strike="noStrike">
                          <a:solidFill>
                            <a:srgbClr val="83de62"/>
                          </a:solidFill>
                          <a:latin typeface="Times New Roman"/>
                          <a:ea typeface="Times New Roman"/>
                        </a:rPr>
                        <a:t>Kerne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de62"/>
                          </a:solidFill>
                          <a:latin typeface="Times New Roman"/>
                          <a:ea typeface="Times New Roman"/>
                        </a:rPr>
                        <a:t>Floating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de62"/>
                          </a:solidFill>
                          <a:latin typeface="Times New Roman"/>
                          <a:ea typeface="Times New Roman"/>
                        </a:rPr>
                        <a:t>Point Kerne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de62"/>
                          </a:solidFill>
                          <a:latin typeface="Times New Roman"/>
                          <a:ea typeface="Times New Roman"/>
                        </a:rPr>
                        <a:t>Rationa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de62"/>
                          </a:solidFill>
                          <a:latin typeface="Times New Roman"/>
                          <a:ea typeface="Times New Roman"/>
                        </a:rPr>
                        <a:t>Kerne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artesian coordinates type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Double floating point number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Rational number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Geometric operation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pproximate – usually give correct result, but there is no guarante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lways give the correct resul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peed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Faster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Slower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317520" y="2087640"/>
            <a:ext cx="2862360" cy="89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D330-63F1-456E-9E7C-B02675577F6B}" type="slidenum">
              <a:t>33</a:t>
            </a:fld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981080" y="287280"/>
            <a:ext cx="538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ometric Kernels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655560" y="1351080"/>
            <a:ext cx="75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Some specifications of ambient space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298440" y="2065320"/>
            <a:ext cx="852804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e assume that ambient space is equipped with standard Cartesian Coordinate Syste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ints are specified by their Cartesian coordinate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artesian coordinates of typ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i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are doubles.            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i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is stored by it’s Cartesian coordinates.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(The functions p.xcoord();   p.ycoord() 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artesian coordinates of typ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at_poi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are rationales.       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It’s more efficie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for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at_poi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to store the coordinates by their </a:t>
            </a:r>
            <a:r>
              <a:rPr b="0" i="1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homogeneou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coordinates. 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F3FF-A802-4AFD-948E-1C3E97D2958E}" type="slidenum">
              <a:t>34</a:t>
            </a:fld>
          </a:p>
        </p:txBody>
      </p:sp>
    </p:spTree>
  </p:cSld>
  <p:transition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81000" y="247680"/>
            <a:ext cx="538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ometric Kernels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1014480" y="1490760"/>
            <a:ext cx="73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Homogeneous Coordinates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795240" y="2265480"/>
            <a:ext cx="761364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Definition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mogeneous coordinates of a point in the plane are triple (x,y,w)  w != 0 ; x,y,w –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teger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x,y,w) ≡ (x/w,y/w) ; w – homogenizing coordinat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The functions:   p.X(), p.Y(), p.W()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.C. of a point are not unique – the triples that are multiples of each other specify the same point.        (1/2,3/4)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=(2,3,4)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==&gt;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3p≡p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6,9,12) ≡ (2,3,4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425E-E79A-4AB3-B150-26D52C7B9C8A}" type="slidenum">
              <a:t>35</a:t>
            </a:fld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881000" y="268200"/>
            <a:ext cx="538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ometric Kernels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1484280" y="1874880"/>
            <a:ext cx="63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Homogeneous Coordinates(cont.)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378000" y="2882880"/>
            <a:ext cx="83293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or compatibility with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at_points, points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lso have H.C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X &amp; Y are regular x,y coordinates, and W = 1.0,             so the H.C. of 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int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are of type double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.C. are not unique, but it’s guaranteed that all accesses to the H.C. of a point return the same value. The homogenizing coordinate W is always stored positive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7145-CB30-45FB-882E-0669BF616307}" type="slidenum">
              <a:t>36</a:t>
            </a:fld>
          </a:p>
        </p:txBody>
      </p:sp>
    </p:spTree>
  </p:cSld>
  <p:transition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77800" y="260280"/>
            <a:ext cx="614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me name conventions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>
            <a:off x="277920" y="1511280"/>
            <a:ext cx="85485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or corresponding classes of f.p. kernel use:                  point, line, segment, 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or corresponding classes of rational kernel use:          rat_point, rat_line, rat_segment,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f the distinction is immaterial use (The Generic Type): POINT, LINE, SEGMENT, …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AT_TYPE (of C.C.):   double for f.p. kernel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  rational for rational kerne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T_TYPE (of H.C.):     double for f.p kernel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integer for rational kerne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84C5-7603-417C-9F29-DF8466938BB2}" type="slidenum">
              <a:t>37</a:t>
            </a:fld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550680" y="255600"/>
            <a:ext cx="170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ints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338040" y="1808280"/>
            <a:ext cx="848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5" name=""/>
          <p:cNvSpPr/>
          <p:nvPr/>
        </p:nvSpPr>
        <p:spPr>
          <a:xfrm>
            <a:off x="237960" y="1749600"/>
            <a:ext cx="890604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The Generic for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                                                        POINT p(RAT_TYPE x, RAT_TYPE y);                        POINT p(INT_TYPE X, INT_TYPE Y, INT_TYPE W=1)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The Default Constructo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                                                    POINT p; //build the origin (0,0)  (better use POINT p(0,0);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Exampl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 (point with coordinates (1/5,4/5))                                                                    point p(0.2,0.8);      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// C.C. in doubl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                                                      point q(1,4,5);         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// H.C. in doubl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                                             rat_point r(1,4,5);   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//  H.C. in integer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                                          rat_point s(rational(1,5),rational(4,5)); 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// pair of rational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D23A-73F7-4AF6-8461-3AAC235E63B4}" type="slidenum">
              <a:t>38</a:t>
            </a:fld>
          </a:p>
        </p:txBody>
      </p:sp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796480" y="314280"/>
            <a:ext cx="346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ints (cont.)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338040" y="1808280"/>
            <a:ext cx="848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237960" y="1749600"/>
            <a:ext cx="890604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Linear orders defined on point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mp_x – compare points by their x-coordinat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mp_y – compare points by their y-coordinat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mp_xy – compare points by their x-coordinate. Points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ith equal x-coord. are compared by their y-coord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mp_yx – compare points by their y-coordinate. Points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ith equal y-coord. are compared by their x-coord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mp – the same as cmp_xy. It is the default order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0BC3-760C-4EA2-A5B7-A38AAC6AC534}" type="slidenum">
              <a:t>39</a:t>
            </a:fld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8640" y="243000"/>
            <a:ext cx="716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STORY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676440" y="1789200"/>
            <a:ext cx="797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" y="1609560"/>
            <a:ext cx="83293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oject started in 1988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ix months spent on specification and selection of implementation language (C++)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irst publication about LEDA appeared in 1989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989 – 1990 first version of the combinatorial part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995 – first commercial version of LEDA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997 – the company markets other systems with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DA like AGD and CGAL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451320" y="314280"/>
            <a:ext cx="207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ctors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338040" y="1808280"/>
            <a:ext cx="848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>
            <a:off x="237960" y="1749600"/>
            <a:ext cx="890604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Exampl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ctor       v (double x, double y);           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at_vector v (rational x, rational y); 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at_vector v (integer X, integer Y, integer W=1)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Default Constructo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defines 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ro-vecto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Importa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re is no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cto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with H.C., becaus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ctor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exists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or arbitrary dimensions and so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cto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with 3 doubles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ill define vector in 3-dimensional space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60A7-66E4-4AE7-97CC-8A97CB438CC0}" type="slidenum">
              <a:t>40</a:t>
            </a:fld>
          </a:p>
        </p:txBody>
      </p:sp>
    </p:spTree>
  </p:cSld>
  <p:transition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697120" y="333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ctors (cont.)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>
            <a:off x="338040" y="1808280"/>
            <a:ext cx="848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341360"/>
            <a:ext cx="914400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Operations on vector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(two vectors v and w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Coordinates acces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               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AT_TYPE  v.coord(int i);   //i-th C.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AT_TYPE  v.coord[int i];   //i-th C.C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T_TYPE  v.hcoord(int i);  //i-th H.C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Basic operation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                              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v + w) and (v – w) - give another vector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-v) – reverses vector                  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v * w) – scalar product of v &amp; w (returns RAT_TYPE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Angles operation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                           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t compare_by_angle(VECTOR v, VECTOR w)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2ADF-F56B-4E50-A802-D74A9C946B00}" type="slidenum">
              <a:t>41</a:t>
            </a:fld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310400" y="330120"/>
            <a:ext cx="666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ints – Vectors Relations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338040" y="1808280"/>
            <a:ext cx="848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237960" y="1471680"/>
            <a:ext cx="866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Identify point with arrow extended from the origin to the point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200160" y="4762440"/>
            <a:ext cx="421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Operation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                                      (p,q – points; v – vector)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* (p – q)  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vector                   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* (p + q) 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point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5800" y="380880"/>
            <a:ext cx="7745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ce266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3360" y="2101680"/>
            <a:ext cx="2617920" cy="258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572080" y="2076480"/>
            <a:ext cx="3016440" cy="2225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599080" y="4497480"/>
            <a:ext cx="2975040" cy="215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8461-BC87-49CF-9842-E77BE7AFB33A}" type="slidenum">
              <a:t>42</a:t>
            </a:fld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147480" y="333360"/>
            <a:ext cx="255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gments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"/>
          <p:cNvSpPr/>
          <p:nvPr/>
        </p:nvSpPr>
        <p:spPr>
          <a:xfrm>
            <a:off x="318960" y="1689120"/>
            <a:ext cx="84870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The Generic for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                                                    SEGMENT s (POINT p, POINT q);                              SEGMENT s (POINT p, VECTOR v);  //same as s(p,p+v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Exampl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                                      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gment       s (point p, point q);  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at_segment s (rat_point p, rat_point q);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gment       s (point p, vector v)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// access of defining points         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.source(); s.target()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C4D5-C588-42DC-9CA2-359A3B64BF19}" type="slidenum">
              <a:t>43</a:t>
            </a:fld>
          </a:p>
        </p:txBody>
      </p:sp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518560" y="295200"/>
            <a:ext cx="394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es and Rays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258840" y="1614600"/>
            <a:ext cx="86472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The Generic for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                                                    LINE l (POINT p, POINT q);                                        LINE l (POINT p, VECTOR v);  //same as l(p,p+v)      RAY r (POINT p, POINT q);                                        RAY r (POINT p, VECTOR v);  //same as l(p,p+v)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Importa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                                      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two defining points must not be equal, and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ctor must not be th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ro-vecto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D30E-930C-4DC5-AC2A-0D252E1CA1F3}" type="slidenum">
              <a:t>44</a:t>
            </a:fld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615120" y="314280"/>
            <a:ext cx="19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ircles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517680" y="1609560"/>
            <a:ext cx="820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Circles can be constructed in many way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The Generic form of two such construction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    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//circle passing through 3 points                                                         CIRCLE C (POINT a, POINT b , POINT c);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//circle with center a and passing through b   CIRCLE C (POINT a, POINT b);                                       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ther options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8f2b"/>
                </a:solidFill>
                <a:uFillTx/>
                <a:latin typeface="Times New Roman"/>
                <a:ea typeface="Times New Roman"/>
                <a:hlinkClick r:id="rId2"/>
              </a:rPr>
              <a:t>circle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nd </a:t>
            </a:r>
            <a:r>
              <a:rPr b="0" lang="en-US" sz="2800" spc="-1" strike="noStrike" u="sng">
                <a:solidFill>
                  <a:srgbClr val="ff8f2b"/>
                </a:solidFill>
                <a:uFillTx/>
                <a:latin typeface="Times New Roman"/>
                <a:ea typeface="Times New Roman"/>
                <a:hlinkClick r:id="rId3"/>
              </a:rPr>
              <a:t>rat_circl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916C-E152-467C-AB3F-E012F6295E0B}" type="slidenum">
              <a:t>45</a:t>
            </a:fld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13000" y="353880"/>
            <a:ext cx="627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ty and Equivalence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"/>
          <p:cNvSpPr/>
          <p:nvPr/>
        </p:nvSpPr>
        <p:spPr>
          <a:xfrm>
            <a:off x="237960" y="1569960"/>
            <a:ext cx="86472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ll geometric types are kind of pointer to this object’s representation object. There is a difference between </a:t>
            </a:r>
            <a:r>
              <a:rPr b="0" i="1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identic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equ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objects.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If A and B are two geometric objects: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A and B are </a:t>
            </a:r>
            <a:r>
              <a:rPr b="0" i="1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identic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if they point to the same OBJECT representation ( Boolean function identical(A,B) ).             A and B are </a:t>
            </a:r>
            <a:r>
              <a:rPr b="0" i="1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equ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if they agree as geometric objects ( == )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assignment statement preserve </a:t>
            </a:r>
            <a:r>
              <a:rPr b="0" i="1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identit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POINT p(0,0); POINT q(0,0); POINT r = p;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identical (p,q);                              //  fals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p == q;  identical (p,r);  p == r;    //tru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AE22-A478-45AF-8E70-36F2C9E17869}" type="slidenum">
              <a:t>46</a:t>
            </a:fld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790640" y="0"/>
            <a:ext cx="531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ociating Information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Geometric Objects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2" name=""/>
          <p:cNvSpPr/>
          <p:nvPr/>
        </p:nvSpPr>
        <p:spPr>
          <a:xfrm>
            <a:off x="339840" y="1432080"/>
            <a:ext cx="856620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ints, lines, segments, rays, and circles have id-numbers and hence associative data structures can be defined in them. 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ps and h_arrays associate information with representation object (two different representation objects – differ)                  map&lt;POINT,int&gt; color;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POINT p(0,0); color[p] = 0;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POINT q(0,0); color[q] = 1;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POINT r = p;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cout &lt;&lt; color[p] &lt;&lt; color[q] &lt;&lt; color[r];  //  outputs 010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 dictionary arrays, equal objects share their information:        d_array&lt;POINT,int&gt; color; …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Then the output will be 111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9C0D-C90A-48EC-B9EC-803A02974872}" type="slidenum">
              <a:t>47</a:t>
            </a:fld>
          </a:p>
        </p:txBody>
      </p:sp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770120" y="0"/>
            <a:ext cx="57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verting between the rational and f.p. kernels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4" name=""/>
          <p:cNvSpPr/>
          <p:nvPr/>
        </p:nvSpPr>
        <p:spPr>
          <a:xfrm>
            <a:off x="317520" y="1868400"/>
            <a:ext cx="8448480" cy="47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.P. objects and Rational objects can be converted to each other. Conversion of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point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int p.to_point();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f p is a </a:t>
            </a:r>
            <a:r>
              <a:rPr b="0" i="1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int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– this is equal to the call of copy constructor       if p is a </a:t>
            </a:r>
            <a:r>
              <a:rPr b="0" i="1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at_point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– the Cartesian coordinates returned are f.p. approximation of Cartesian coordinates of p.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Example of usage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When object should be displayed in window, it should be converted to f.p. object.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1073-6184-486E-B7BD-36DBE396F6BC}" type="slidenum">
              <a:t>48</a:t>
            </a:fld>
          </a:p>
        </p:txBody>
      </p:sp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786400" y="353880"/>
            <a:ext cx="336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mutability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6" name=""/>
          <p:cNvSpPr/>
          <p:nvPr/>
        </p:nvSpPr>
        <p:spPr>
          <a:xfrm>
            <a:off x="378000" y="1590840"/>
            <a:ext cx="850716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ll geometric objects are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mmutabl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 No operation on geometric object can change it. There are operations that generate new object from the existing one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Exampl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.translate(1,1)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only case i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ssignme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 = p.translate(1,)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old object is lost for p 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p points to the new object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B0AA-0B6C-457D-9DDC-BFB978D65CC3}" type="slidenum">
              <a:t>49</a:t>
            </a:fld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98640" y="243000"/>
            <a:ext cx="716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ign Goals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" y="1789200"/>
            <a:ext cx="797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09560"/>
            <a:ext cx="914400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Four major goals for the design of LEDA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Ease of us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no special knowledge is needed; abstract data type (item); general rules for all data types; </a:t>
            </a:r>
            <a:r>
              <a:rPr b="0" lang="en-US" sz="2400" spc="-1" strike="noStrike" u="sng">
                <a:solidFill>
                  <a:srgbClr val="ff8f2b"/>
                </a:solidFill>
                <a:uFillTx/>
                <a:latin typeface="Times New Roman"/>
                <a:ea typeface="Times New Roman"/>
                <a:hlinkClick r:id="rId2"/>
              </a:rPr>
              <a:t>manuals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; etc…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Extensibilit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 easily extensible; LEDA itself is an example for the extensibility of LEDA)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Correctnes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documentation; program checkers; exact number types and efficient geometry kernel for geometry algorithms)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Efficienc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implementations based on the asymptotically most efficient algorithms; different algorithmic approaches; memory managemen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626920" y="372960"/>
            <a:ext cx="363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put / Output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239760" y="1889280"/>
            <a:ext cx="862488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Geometric objects have regular &gt;&gt; and &lt;&lt; I/O operators. (files, standard I/O, …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Graphical I/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Window class supports drawing of geometric objects. </a:t>
            </a: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Simpl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 &lt;&lt; p.to_point();  //W &lt;&lt; p if p is poi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 &lt;&lt; s.to_segment();  //W &lt;&lt; s if s is segment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More contro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.draw_segment (S,red);  //draw S in r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.draw_disk(C,blue);       //draw a blue filed circl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32B0-FBCD-4479-882C-EF73021ACA44}" type="slidenum">
              <a:t>50</a:t>
            </a:fld>
          </a:p>
        </p:txBody>
      </p:sp>
    </p:spTree>
  </p:cSld>
  <p:transition>
    <p:strips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79560" y="274680"/>
            <a:ext cx="539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put / Output (cont.)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0" name=""/>
          <p:cNvSpPr/>
          <p:nvPr/>
        </p:nvSpPr>
        <p:spPr>
          <a:xfrm>
            <a:off x="277920" y="1749600"/>
            <a:ext cx="84880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ouse Input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ne Left mouse button click constructs a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poi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          Two Left mouse button clicks constructs a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segment, line, ray, circl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 &gt;&gt; p;   // p is a poin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 &gt;&gt; s;   // s is a segment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se reading operations are blocked and wait for mouse clicks. Right mouse click  - end of the input (like eof).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78A6-EC8D-42D2-A8F7-033AF3FC17FC}" type="slidenum">
              <a:t>51</a:t>
            </a:fld>
          </a:p>
        </p:txBody>
      </p:sp>
    </p:spTree>
  </p:cSld>
  <p:transition>
    <p:strips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737000" y="293760"/>
            <a:ext cx="541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ometric Primitives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" y="1768320"/>
            <a:ext cx="844884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Orientation function in the plane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t orientation(POINT p, POINT q, POINT r)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ool leftturn(p,q,r);     //same as orientation(p,q,r) &gt; 0          bool rightturn(p,q,r);   //same as orientation(p,q,r) &lt; 0         bool collinear(p,q,r);   //same as orientation(p,q,r) == 0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orientation is equal to the sign of the determinant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| 1    1    1   |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½   | Xp Xq Xr |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| Yp Yq Yr |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48AA-CDE6-41DF-A29F-0729667C443C}" type="slidenum">
              <a:t>52</a:t>
            </a:fld>
          </a:p>
        </p:txBody>
      </p:sp>
    </p:spTree>
  </p:cSld>
  <p:transition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011600" y="274680"/>
            <a:ext cx="717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ometric Primitives (cont.)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4" name=""/>
          <p:cNvSpPr/>
          <p:nvPr/>
        </p:nvSpPr>
        <p:spPr>
          <a:xfrm>
            <a:off x="378000" y="1330200"/>
            <a:ext cx="84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Sidednes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436680" y="1808280"/>
            <a:ext cx="842796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ny Geometric objects partition ambient space into two parts. We’ll call one of the parts as </a:t>
            </a:r>
            <a:r>
              <a:rPr b="0" i="1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positiv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&amp; one as </a:t>
            </a:r>
            <a:r>
              <a:rPr b="0" i="1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negativ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//positive number if x in positive part (same for negative) //return zero if x lies on the objec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t OBJECT.side_of(x)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t l.side_of(x);    //l is a lin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t C.side_of(x);   //C is a circl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se the orientation function to define the sign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(In 2-d – positive subspace is the region to the left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7BB0-5152-489D-92E2-5EB4686C3AFD}" type="slidenum">
              <a:t>53</a:t>
            </a:fld>
          </a:p>
        </p:txBody>
      </p:sp>
    </p:spTree>
  </p:cSld>
  <p:transition>
    <p:strips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011600" y="274680"/>
            <a:ext cx="717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ometric Primitives (cont.)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" y="1311120"/>
            <a:ext cx="84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Sidedness(cont.)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8" name=""/>
          <p:cNvSpPr/>
          <p:nvPr/>
        </p:nvSpPr>
        <p:spPr>
          <a:xfrm>
            <a:off x="258840" y="1668600"/>
            <a:ext cx="860580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ny Geometric objects partition ambient space into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ounded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nd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nbounded region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num region_kind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{ BOUNDED_REGION, ON_REGION,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              UNBOUNDED_REGION };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egion_kind O.region_of(x);             //the generic form    region_kind C.region_of(x);              //C is a circl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Some test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bool O.inside(x);    //O.region_of(x) == bounded_region  bool O.on_boundary(x); //O.region_of(x) == on_region bool O.outside(x);//O.region_of(x) == unbounded_region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4BE1-9366-4D4E-970E-4001748D6565}" type="slidenum">
              <a:t>54</a:t>
            </a:fld>
          </a:p>
        </p:txBody>
      </p:sp>
    </p:spTree>
  </p:cSld>
  <p:transition>
    <p:strips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006920" y="274680"/>
            <a:ext cx="717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ometric Primitives (cont.)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0" name=""/>
          <p:cNvSpPr/>
          <p:nvPr/>
        </p:nvSpPr>
        <p:spPr>
          <a:xfrm>
            <a:off x="2611440" y="1370160"/>
            <a:ext cx="36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Length and distance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1" name=""/>
          <p:cNvSpPr/>
          <p:nvPr/>
        </p:nvSpPr>
        <p:spPr>
          <a:xfrm>
            <a:off x="417600" y="1968480"/>
            <a:ext cx="838836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AT_TYPE p.sqr_dist(q);  //square dist. between p &amp; q RAT_TYPE l.sqr_dist(q);   //square dist. between l &amp; q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ist(p,q) = ((Xp-Xq) </a:t>
            </a:r>
            <a:r>
              <a:rPr b="1" lang="en-US" sz="28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+ (Yp-Yq) </a:t>
            </a:r>
            <a:r>
              <a:rPr b="1" lang="en-US" sz="28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</a:t>
            </a:r>
            <a:r>
              <a:rPr b="1" lang="en-US" sz="3600" spc="-1" strike="noStrike" baseline="30000">
                <a:solidFill>
                  <a:srgbClr val="eaeaea"/>
                </a:solidFill>
                <a:latin typeface="Times New Roman"/>
              </a:rPr>
              <a:t>½</a:t>
            </a:r>
            <a:r>
              <a:rPr b="1" lang="en-US" sz="2800" spc="-1" strike="noStrike" baseline="30000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800" spc="-1" strike="noStrike" baseline="30000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The Problem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Rational kernel has no function to compute dist and f.p.kernel has, but it uses sqrt of math library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The Solution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The computation of dist is rarely needed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Example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Let p,q points, and define circle centered at p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and radius k times dist(p,q)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CIRCLE C(p, p + k * (q – p));  //q-p </a:t>
            </a:r>
            <a:r>
              <a:rPr b="0" lang="en-US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ctor from p to q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46440" y="353880"/>
            <a:ext cx="717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ometric Primitives (cont.)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3" name=""/>
          <p:cNvSpPr/>
          <p:nvPr/>
        </p:nvSpPr>
        <p:spPr>
          <a:xfrm>
            <a:off x="3797640" y="133200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Angle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968480"/>
            <a:ext cx="82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re is no such a type, but there are some operations: int compare_by_angle(VECTOR v, VECTOR w)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5" name=""/>
          <p:cNvSpPr/>
          <p:nvPr/>
        </p:nvSpPr>
        <p:spPr>
          <a:xfrm>
            <a:off x="3366360" y="3021120"/>
            <a:ext cx="22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Intersection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6" name=""/>
          <p:cNvSpPr/>
          <p:nvPr/>
        </p:nvSpPr>
        <p:spPr>
          <a:xfrm>
            <a:off x="576360" y="3578400"/>
            <a:ext cx="79516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tween lines, rays, and segments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//single point – true, otherwise – false                          //l – line, s – segment, p – unique point of intersection                                bool l.intersection(s,p)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>
            <a:off x="1706400" y="5784840"/>
            <a:ext cx="553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f2b"/>
                </a:solidFill>
                <a:uFillTx/>
                <a:latin typeface="Times New Roman"/>
                <a:ea typeface="Times New Roman"/>
                <a:hlinkClick r:id="rId2"/>
              </a:rPr>
              <a:t>Generators for geometric object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582200" y="334800"/>
            <a:ext cx="595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ffine Transformations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9" name=""/>
          <p:cNvSpPr/>
          <p:nvPr/>
        </p:nvSpPr>
        <p:spPr>
          <a:xfrm>
            <a:off x="237960" y="1709640"/>
            <a:ext cx="85870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ffine transformation T of the plane is specified by 3x3 matrix T. It maps point in H.C. p=(p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,p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,p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 to point T*p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or f.p.kernel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ransfor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, for rational kernel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at_transform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RANSFORM T;  //identity transform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TRANSFORM T(M);  //transform with matrix M               M – 3x3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trix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in f.p.k. and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teger_matrix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in rational k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CT = T(OBJECT);   //applianc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f T and T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ransforms, the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(T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OBJECT)) – first T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then T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720720" y="353880"/>
            <a:ext cx="771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ffine Transformations (cont.)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1" name=""/>
          <p:cNvSpPr/>
          <p:nvPr/>
        </p:nvSpPr>
        <p:spPr>
          <a:xfrm>
            <a:off x="299880" y="1768320"/>
            <a:ext cx="860616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Some built in transform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Construct by vector (dx/dw,dy/dw) or (dx,dy)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RANSFORM T = translation(const INT_TYPE&amp; dx,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                          const INT_TYPE&amp; dy,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                          const INT_TYPE&amp; dw); TRANSFORM T = translation(const INT_TYPE&amp; dx,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                          const INT_TYPE&amp; dy);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Construct the reflection across line through p &amp; q and across q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TRANSFORM T = reflection(const POINT&amp; q, const POINT&amp; r) ; TRANSFORM T = reflection(const POINT&amp; q) ;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tc…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297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riting Kernel Independent Code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3" name=""/>
          <p:cNvSpPr/>
          <p:nvPr/>
        </p:nvSpPr>
        <p:spPr>
          <a:xfrm>
            <a:off x="417600" y="1609560"/>
            <a:ext cx="819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++ precompilation mechanism is used to write kernel independent code. It is possible to write Generic code that uses POINT, LINE, …                                        Must include one of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#include &lt;LEDA/rat_kernel_names.h&gt;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#include &lt;LEDA/float_kernel_names.h&gt;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#include &lt;LEDA/d3_rat_kernel_names.h&gt;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#include &lt;LEDA/d3_float_kernel_names.h&gt;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ndefine all names to avoid unexpected errors: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#include &lt;LEDA/kernel_names_undef.h&gt;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#include &lt;LEDA/d3_kernel_names_undef.h&gt;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08920" y="214200"/>
            <a:ext cx="555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tion (cont.)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436680" y="1609560"/>
            <a:ext cx="817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569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989000" y="1511280"/>
            <a:ext cx="47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LEDA Offers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277920" y="2604960"/>
            <a:ext cx="86072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Data Type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, such as random sources,stacks,queues,maps,lists,sets,        partitions,dictionaries,sorted sequences,point sets,interval sets, …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Number Type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, such as integers, rationals, bigfloats, algebraic numbers, and linear algebra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Graphs and Supporting Data Structure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, such as node- and edge-arrays, node- and edge-maps, node priority queues, …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833400" y="314280"/>
            <a:ext cx="73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ree-dimensional Geometry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5" name=""/>
          <p:cNvSpPr/>
          <p:nvPr/>
        </p:nvSpPr>
        <p:spPr>
          <a:xfrm>
            <a:off x="615960" y="1789200"/>
            <a:ext cx="78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Similar to plane Geometry objects and routine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6" name=""/>
          <p:cNvSpPr/>
          <p:nvPr/>
        </p:nvSpPr>
        <p:spPr>
          <a:xfrm>
            <a:off x="2325600" y="326088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f2b"/>
                </a:solidFill>
                <a:uFillTx/>
                <a:latin typeface="Times New Roman"/>
                <a:ea typeface="Times New Roman"/>
                <a:hlinkClick r:id="rId2"/>
              </a:rPr>
              <a:t>Some basic type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33400" y="314280"/>
            <a:ext cx="76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gher-dimensional Geometry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8" name=""/>
          <p:cNvSpPr/>
          <p:nvPr/>
        </p:nvSpPr>
        <p:spPr>
          <a:xfrm>
            <a:off x="277920" y="1789200"/>
            <a:ext cx="86281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ovides – points, vectors, directions, hyperplanes,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segments, lines, affin trans., and operations connecting these types in d-dimensional Euclidean space. Every coordinates and coefficients are rational numbers, so all the computations are exact.Computational basis provided by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integer, integer_vector, integer_matrix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higher-dimensional kernel is available as an LEP and was developed as part of the CGAL project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untitl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32720" y="185760"/>
            <a:ext cx="555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tion (cont.)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3242880" y="1360440"/>
            <a:ext cx="22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  <a:ea typeface="Times New Roman"/>
              </a:rPr>
              <a:t>LEDA Offers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258840" y="1947960"/>
            <a:ext cx="858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396720" y="2425680"/>
            <a:ext cx="8329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Graph Algorith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, such as shortest paths, spanning trees, flows, matchings, components; planarity, planar embedding, …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Geometric Object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, such as points, lines, segments, rays, planes, circles, polygons, …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Geometric Algorith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, such as convex hull, triangulations, Delaunay diagrams, Voronoi diagrams, segment intersection, …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de62"/>
                </a:solidFill>
                <a:latin typeface="Times New Roman"/>
                <a:ea typeface="Times New Roman"/>
              </a:rPr>
              <a:t>Graphical Input and Outpu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, such as graphical windows support, mouse input/output, …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tc …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77720" y="298440"/>
            <a:ext cx="807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stems that go well with LEDA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51128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ABACU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– branch-and-cut framework for 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lyhedral optimization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CPLEX &amp; SoPLEX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– solvers for linear program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AG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– a library for automatic graph drawing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GDToolki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– toolkit for graph drawing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83de62"/>
                </a:solidFill>
                <a:uFillTx/>
                <a:latin typeface="Times New Roman"/>
                <a:ea typeface="Times New Roman"/>
              </a:rPr>
              <a:t>CGAL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– computational geometry algorithms library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1CA5-1C68-421B-9527-A18A99DFACE1}" type="slidenum">
              <a:t>8</a:t>
            </a:fld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89200" y="298440"/>
            <a:ext cx="520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me Programs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496800" y="1749600"/>
            <a:ext cx="808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DA can be used with almost any C++ compiler and is available for different Unix and Windows systems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874800" y="3697200"/>
            <a:ext cx="727560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ijkstra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 u="sng">
                <a:solidFill>
                  <a:srgbClr val="ff8f2b"/>
                </a:solidFill>
                <a:uFillTx/>
                <a:latin typeface="Times New Roman"/>
                <a:ea typeface="Times New Roman"/>
                <a:hlinkClick r:id="rId2"/>
              </a:rPr>
              <a:t>pseudo cod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RUST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 u="sng">
                <a:solidFill>
                  <a:srgbClr val="ff8f2b"/>
                </a:solidFill>
                <a:uFillTx/>
                <a:latin typeface="Times New Roman"/>
                <a:ea typeface="Times New Roman"/>
                <a:hlinkClick r:id="rId3"/>
              </a:rPr>
              <a:t>pseudo cod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378A-A177-483D-B0FA-33B0BC25CF85}" type="slidenum">
              <a:t>9</a:t>
            </a:fld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3T20:07:59Z</dcterms:created>
  <dc:creator/>
  <dc:description/>
  <dc:language>en-US</dc:language>
  <cp:lastModifiedBy>gilerov</cp:lastModifiedBy>
  <cp:lastPrinted>1999-09-24T20:26:58Z</cp:lastPrinted>
  <dcterms:modified xsi:type="dcterms:W3CDTF">2001-12-26T13:28:54Z</dcterms:modified>
  <cp:revision>152</cp:revision>
  <dc:subject/>
  <dc:title>PowerPoint Presentation</dc:title>
</cp:coreProperties>
</file>