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F2B2-700B-41DD-B896-EBBD7EF8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42F1-98F4-4198-9613-02956D9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A0D1-C0EE-4871-BD71-75C1539A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CD91-01BC-4B42-BDB5-51466383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2D7-57DD-4D45-835D-19C6D611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0918-64E3-4A25-A66C-0CC5F112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9144-6C71-4F53-BC94-0182E929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BD58-A7D6-4298-8857-2A9322A7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9B18-89D8-4BE3-B2DC-E4EB036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0A4F-83C8-43E9-AD69-0C590629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210-6D52-458A-8011-98E73C3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4906-267E-4FCF-AECF-42EA07F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A8A1-E6D8-4230-BF8C-5ECD62A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165-8787-455D-81FC-29C9FED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375-A33B-4726-BE0C-7A81CE85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CA0-C7C4-4EB5-895A-3DD3A9D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CB4-94FB-4397-B28C-9B5915B5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906B-4EAA-47E7-BE32-8157529F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66C8-02E6-45A0-9D28-3601C53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B491-926E-468B-8C15-12C9B13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AC0A-D0AE-4AFB-8FB9-F986F18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E6FC-18EA-4B2D-95C5-3654285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C38A-2E5F-4B11-AFBB-E61F3BB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A9BF-3B27-4693-9333-81231DF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DAB-D7AA-4632-838D-C2E985DA40F2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EB58-F0E9-45EE-BFFD-019858849352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Path Planning in Expansive Configuration Spac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H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 Claude Latom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jeev Motw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623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by Shimon So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a constant in (0,1], and S be a subset of a connected component F’ of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okout set of 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OU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S) = {q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 |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V(q)\S) ≥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F’\S) }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a constant in (0,1]. The free space F is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-expansive if each of its connected components F’ satisfies the following two condi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ery point p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’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V(p)) ≥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F)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any connected subset 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F’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LOOKOU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S) ) ≥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xample abov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0.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xample above we can’t find bi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still the space will be expansiv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condition guarantees th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’ has a relatively large lookout set.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S is the union of the visibility sets of set of points M, then it is easy to pick random additional points in S so that adding them to M results in expanding S significa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quirements from probabilistic roadmap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 coverage of the free space: the milestones should collectively see all but a small fraction of F, so that query configurations can easily be connected to the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admap must correctly represent the connectivity of the free space. i.e. One-to-one correspondence between connected components of the roadmap and those of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 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t of milestones provides an adequate coverage of a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ood free space F if the volume of the subset of F not visible from any of these milestones is at most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 coverage -&gt; For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good free space F each connected component of F contains at least one mileston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random sampling  generates a set of milestones that provides an adequate coverage of F with high probabilit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milestones needed grows proportional to (1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ln(1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probability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going to focus on the connectivity of the roadmap. Combined with this resul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-to-one correspondence between connected components of R and those of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 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nking sequence of a point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is a sequence of points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…and a sequence of sets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V(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V1,V2…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uch that for all i ≥ 1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OKOUT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(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609480" y="838080"/>
            <a:ext cx="5639040" cy="5105520"/>
            <a:chOff x="609480" y="838080"/>
            <a:chExt cx="5639040" cy="5105520"/>
          </a:xfrm>
        </p:grpSpPr>
        <p:sp>
          <p:nvSpPr>
            <p:cNvPr id="564" name=""/>
            <p:cNvSpPr/>
            <p:nvPr/>
          </p:nvSpPr>
          <p:spPr>
            <a:xfrm>
              <a:off x="2666880" y="2971800"/>
              <a:ext cx="3581640" cy="29718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43000" y="1295280"/>
              <a:ext cx="1447920" cy="2514600"/>
            </a:xfrm>
            <a:prstGeom prst="line">
              <a:avLst/>
            </a:prstGeom>
            <a:ln w="12708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480" y="838080"/>
              <a:ext cx="2514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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V(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04920" y="4038480"/>
            <a:ext cx="3429000" cy="2210040"/>
            <a:chOff x="304920" y="4038480"/>
            <a:chExt cx="3429000" cy="2210040"/>
          </a:xfrm>
        </p:grpSpPr>
        <p:sp>
          <p:nvSpPr>
            <p:cNvPr id="568" name=""/>
            <p:cNvSpPr/>
            <p:nvPr/>
          </p:nvSpPr>
          <p:spPr>
            <a:xfrm>
              <a:off x="1447920" y="4038480"/>
              <a:ext cx="2286000" cy="221004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4920" y="43434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V(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4724280"/>
              <a:ext cx="609840" cy="228600"/>
            </a:xfrm>
            <a:prstGeom prst="line">
              <a:avLst/>
            </a:prstGeom>
            <a:ln w="633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447920" y="2514600"/>
            <a:ext cx="2895480" cy="3225600"/>
            <a:chOff x="1447920" y="2514600"/>
            <a:chExt cx="2895480" cy="3225600"/>
          </a:xfrm>
        </p:grpSpPr>
        <p:sp>
          <p:nvSpPr>
            <p:cNvPr id="572" name=""/>
            <p:cNvSpPr/>
            <p:nvPr/>
          </p:nvSpPr>
          <p:spPr>
            <a:xfrm rot="19452600">
              <a:off x="2782800" y="4230360"/>
              <a:ext cx="9144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47920" y="2514600"/>
              <a:ext cx="289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OKOUT(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2895480"/>
              <a:ext cx="152280" cy="1371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85800" y="3124080"/>
            <a:ext cx="1905120" cy="2133720"/>
            <a:chOff x="685800" y="3124080"/>
            <a:chExt cx="1905120" cy="2133720"/>
          </a:xfrm>
        </p:grpSpPr>
        <p:sp>
          <p:nvSpPr>
            <p:cNvPr id="576" name=""/>
            <p:cNvSpPr/>
            <p:nvPr/>
          </p:nvSpPr>
          <p:spPr>
            <a:xfrm>
              <a:off x="2362320" y="5029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85800" y="3124080"/>
              <a:ext cx="1676520" cy="1828800"/>
              <a:chOff x="685800" y="3124080"/>
              <a:chExt cx="1676520" cy="1828800"/>
            </a:xfrm>
          </p:grpSpPr>
          <p:sp>
            <p:nvSpPr>
              <p:cNvPr id="578" name=""/>
              <p:cNvSpPr/>
              <p:nvPr/>
            </p:nvSpPr>
            <p:spPr>
              <a:xfrm>
                <a:off x="685800" y="3124080"/>
                <a:ext cx="609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3505320"/>
                <a:ext cx="1219320" cy="14475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3124080" y="4724280"/>
            <a:ext cx="2133720" cy="1929960"/>
            <a:chOff x="3124080" y="4724280"/>
            <a:chExt cx="2133720" cy="1929960"/>
          </a:xfrm>
        </p:grpSpPr>
        <p:sp>
          <p:nvSpPr>
            <p:cNvPr id="581" name=""/>
            <p:cNvSpPr/>
            <p:nvPr/>
          </p:nvSpPr>
          <p:spPr>
            <a:xfrm>
              <a:off x="312408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3352320" y="5029200"/>
              <a:ext cx="1295640" cy="1295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8320" y="62485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nking sequ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next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prove two lem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ma 1 states that a set M of randomly sampled milestones is highly likely to contain a linking sequence of a given length for any milestone in 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ma 2 shows that the sets associated with a linking sequence of this length span a large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sets determined by long-enough linking sequences for any two milestones p and q must intersect, since their volume are large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mma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 be a set of n milestones chosen independently and uniformly at random from the free space F. Let S = 1/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 Given any milestone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, there exists a linking sequence in M of length t for p with probability at least 1- s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(n-t-1)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are we going to se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introduce the notion of expansiveness to characterize a family of robot configuration spaces whose connectivity can be effectively captured by a roadmap of randomly-sampled milestones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introduce new randomized planning algorithm as an inspiration from the properties of expansive configuration sp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05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0.1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 = 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800, t = 10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 ≥ -2.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1300, t= 10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≥ 0.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1300, t= 5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≥ 0.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2000, t= 10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≥ 0.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mma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denote the volume of the tth set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d by a linking sequence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…  for a point p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’, where F’ is a connected component of F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for t ≥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(4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39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≥ 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’)/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– set of milestones sampled from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– the probabilistic roadmap obtained by taking all the milestones in M as vertices and introducing and edge, between any two milestones which can see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connected componen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F, let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 be the set of milestones belonging to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the sub graph of R containing the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ver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orem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a constant in (0,1]. Suppose a set M of 2n + 2 milestones,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ln(16/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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)/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3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s chosen independently and uniformly at random from the free space F. Then with probability at least 1 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ach of the roadmap graphs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nected grap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gnificance of Theorem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 we cannot compute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n advance, except for simple c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em 1 tells us that the probability that a roadmap does not conform to the connectivity of F decreases exponentially with the number of milest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ilestones needed increases moderately w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new plann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notion used in the linking sequence of a point. If the visibility region associated with the LS of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rsects with that of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a path is f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lanner idea: given two configuration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it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o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ample at random from C, but retain path-connected configuration to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it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o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build two trees rooted at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it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oal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ees grow until the visibility region of a tree intersects with that of the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ly execute two basic step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xpans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n both trees)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conne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ry to connect tre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– some n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= { q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| di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q,x) &lt; d} (d-parameter, di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ome metr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(x) – number of sampled nodes in the tree that lie in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pan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a node x from V with probability 1/w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K points from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99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ach configuration y picked </a:t>
            </a:r>
            <a:r>
              <a:rPr b="0" i="1" lang="en-US" sz="3200" spc="-1" strike="noStrike">
                <a:solidFill>
                  <a:srgbClr val="00ff99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culate w(y) and retain y with prob 1/w(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99"/>
                </a:solidFill>
                <a:latin typeface="Arial"/>
              </a:rPr>
              <a:t>If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y is retained and clearance(y) &gt; 0 and link(x,y) ==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99"/>
                </a:solidFill>
                <a:latin typeface="Arial"/>
              </a:rPr>
              <a:t>The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ut y in V and place an edge between x and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n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very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is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,y) &lt; L (L is para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if link(x,y) == YES put an edge between x and y and terminate successfu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Arial"/>
              </a:rPr>
              <a:t>Parameterizing the configuration sp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we represent a configuration by a seven-tupl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wher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specifies the position of the robot and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s a unit quaternion specifying the orientation of the rob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for dis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eat C as Cartesian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use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For dis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e wish that configuration that are close, are likely to see each other), we define dis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,q) to be the maximum distance traveled by any point of the robot when it moves along straight line path between p and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ndomized plann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ized path planner (RPP) – searches for a path by following the negated gradient potential field constructed over the configuration space, uses random walks to escape local minima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abilistic roadmap – uses random sampling to construct a PRM in the configuration space, It then tries to find a path between any two input configurations by connecting them to the roadmap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other techniques but simila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Unidirectional versus bi-directional expa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Choosing 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he more constraint the space is the smaller d should 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Choosing 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The algo is not very sensitive (10 is 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Checking straight line connec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(link function) let p and q have clearanc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We say that p and q are adjacent if di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,q) &lt; max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Termination condi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maximum number of expansion and connection or the minimum weight over all nodes excess a certain valu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Path smoo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usually the path generated has too many zig-zags, but it can be smoothed by a simple algorith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ndomized planners - The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ized planners have demonstrated good performance empirically, but are not comple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PP are analyzed based on the study of Markov Chains and diffusion process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PRM, an estimate is given for the probability that the roadmap planner can find a path between two given configurations, assuming that a path of certain clearance exi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andomized planners - Performan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oadmap planner (PRM) offers an efficient solution for multiple query path planning problems, it is not suitable when only single query is submitted for a given environment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good example of a single-query planning problem is the assembly maintainability problem. Is a path to remove a part (for maintenance) exists ?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nalysis of the roadmap planner suggests a scheme to achieve this goal efficiently in case of expansive spaces. The idea – sample only the connected component that contain either q-init or q-go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pansive C-Sp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s slightly stronger assumption than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goodne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show under the assumption that the free space is expansive, if we build a roadmap by sampling the configuration space uniformly at random and connecting each pair of sampled configuration that can be joined by a straight-line path in the free space, then the resulting connected components of the roadmap conform to the connected region of the free configuration space with high probabil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guration space –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space – F, the set of all free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1 “sees” c2 – if the straight line joining them lies entirely in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the Probabilistic roadmap graph – R=(V,E) we sample configurations uniformly at random from C and retain the free configurations in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114800" y="3276720"/>
            <a:ext cx="1066680" cy="32004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228600"/>
            <a:ext cx="838224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0800000">
            <a:off x="4114440" y="228600"/>
            <a:ext cx="1066680" cy="281952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5335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51768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066680" y="914400"/>
            <a:ext cx="7010640" cy="4724280"/>
            <a:chOff x="1066680" y="914400"/>
            <a:chExt cx="7010640" cy="4724280"/>
          </a:xfrm>
        </p:grpSpPr>
        <p:sp>
          <p:nvSpPr>
            <p:cNvPr id="535" name=""/>
            <p:cNvSpPr/>
            <p:nvPr/>
          </p:nvSpPr>
          <p:spPr>
            <a:xfrm>
              <a:off x="1981080" y="1905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1371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86000" y="2895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76720" y="914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6680" y="5029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00400" y="48006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00800" y="4267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34120" y="16765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4100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66680" y="1219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 flipV="1">
            <a:off x="2514600" y="1904760"/>
            <a:ext cx="2743200" cy="106668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048120"/>
            <a:ext cx="3809880" cy="1295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happened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points in S1 see a large fraction of S2, and therefore the probability that the planner picks a milestone in S1 that sees S2 is very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generally let the lookout set of a set 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 be the subset of points in S that can see a large portion of F\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ample suggests that we can characterize narrow passages by the size of the lookout 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2:55:13Z</dcterms:created>
  <dc:creator>Shimon</dc:creator>
  <dc:description/>
  <dc:language>en-US</dc:language>
  <cp:lastModifiedBy>Shimon</cp:lastModifiedBy>
  <dcterms:modified xsi:type="dcterms:W3CDTF">2003-11-19T12:55:03Z</dcterms:modified>
  <cp:revision>55</cp:revision>
  <dc:subject/>
  <dc:title>Path Planning in Expansive Configuration Spaces</dc:title>
</cp:coreProperties>
</file>